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29CF-FC4C-487C-9099-A1B02409B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A769-E214-405E-A888-FCF60ADFD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E8F6-5553-4A3F-839C-A406D83D0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2D5D-9150-4569-B2A8-0351D5426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4264C-2367-4DBD-9679-3E999526C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1DA5C-D5E4-4E72-B8EF-CAE2A4CE8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6F67A-6421-4EB1-8500-185BC2AE5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C7846-76C2-4BD0-9C86-1DC81B256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C81C0-37A8-4F86-ADDA-25F2CD5C1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1900A-4088-425B-AA60-C57BE9D90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87698-9D0B-4370-A2BF-E83E0F9F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1B6F-ABBF-4F05-9088-042AFCC73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44CA6-4962-4CF8-B446-685A82C6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CAEA6-447F-4141-8404-5854DDDB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37523-ABB0-4ECF-86F3-5C62C2389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6008F-3E19-4C15-9C3A-642AC09E4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77A10-9547-40BB-B8F8-F996B6E5E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6437-F5EB-4E12-B8C7-45DDAD26D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FC59-EE00-49D4-9601-C2759E2DE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6A79-AC5A-442F-9EC5-5A409AAD1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5274-7C18-41F2-8694-B05600079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071D-6FDD-4092-8253-09A85143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1B5D-3800-42DE-A2ED-8B2C2ADF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680A-720E-49D0-99C6-5139C819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Ribbon131 B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ibbon131 BT"/>
              </a:rPr>
              <a:t>&lt;date/time&gt;</a:t>
            </a:r>
            <a:r>
              <a:rPr b="0" lang="en-US" sz="1600" spc="-1" strike="noStrike">
                <a:solidFill>
                  <a:srgbClr val="000000"/>
                </a:solidFill>
                <a:latin typeface="Ribbon131 BT"/>
              </a:rPr>
              <a:t>M. Guym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easant Grove High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pring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FAB8E-68F9-4C49-A013-88DC3371AFB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Ribbon131 B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ibbon131 BT"/>
              </a:rPr>
              <a:t>&lt;date/time&gt;</a:t>
            </a:r>
            <a:r>
              <a:rPr b="0" lang="en-US" sz="1600" spc="-1" strike="noStrike">
                <a:solidFill>
                  <a:srgbClr val="000000"/>
                </a:solidFill>
                <a:latin typeface="Ribbon131 BT"/>
              </a:rPr>
              <a:t>M. Guym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easant Grove High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pring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C4E6B-A82B-44BC-BC07-C17CDE67E08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Network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uter Technolog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arsons, June Jamrich, and Dan Oja.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Computer Concept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. Boston: Course Technology - Thompson Learning, 2002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etwor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wo or more computers and other devices (printers or scanners) that are connected, for the purpose of sharing data and program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952880" y="2081160"/>
            <a:ext cx="350532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etwork Ter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le 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computer connected to a network that distributes resources to other us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ntains the software to manage and process files for other network use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st Comput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fers to any computer that provides services to network us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Used more commonly with the Internet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1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etwork Terms (continued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orks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fers to a personal computer connected to a network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ch computer in the classro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fers to the software on a computer that allows the user to access the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vell Netwa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" dur="1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" dur="1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" dur="10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etwork Interface Card (NIC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42920" y="1752120"/>
            <a:ext cx="3924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mall circuit board that converts the digital signals from a computer into signals that can travel over a network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sktop Computers have the NIC inside the case with a jack on the outside for the network cabl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Our classroom computer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otebook or Laptop Computers have a special card that fits into a slot or opening in the cas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Picture on this slide is the NIC for a Notebook or Laptop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04920" y="2590920"/>
            <a:ext cx="464652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" dur="1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1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etwork Connections Devic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de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device that sends and receives data to and from computers over telephone line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ub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device that connects several components of a network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outer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device that connects at least two network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atewa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device that serves as an entrance to another networ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ll of these can be used alone or combin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0" dur="1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" dur="1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" dur="10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10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ocal Area Network (LAN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396216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puter network that is located within a limited geographical area, such as a school or small busin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PGHS Networ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683160" y="2162160"/>
            <a:ext cx="176832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7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2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ide Area Network (WAN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terconnected group of computers and peripherals that cover a large geographical area, such as multiple building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he Alpine School District Network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he Interne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715000" y="3429000"/>
            <a:ext cx="276084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P Address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 unique identifying number assigned to each computer connected to the interne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 – 204.127.102.00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ach computer on a network should have its own separate IP Address or conflicts will occur when there are duplicate address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6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1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6T18:11:27Z</dcterms:created>
  <dc:creator>Michelle Guymon</dc:creator>
  <dc:description/>
  <dc:language>en-US</dc:language>
  <cp:lastModifiedBy>Brad Schmidt</cp:lastModifiedBy>
  <dcterms:modified xsi:type="dcterms:W3CDTF">2005-10-10T16:15:32Z</dcterms:modified>
  <cp:revision>27</cp:revision>
  <dc:subject/>
  <dc:title>Networks</dc:title>
</cp:coreProperties>
</file>